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ткосрочная 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9643-2608-4714-9F18-FA050BAF1D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0FB3-5F34-400D-BBEC-9050A7B2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2FBE-7495-4C0A-A5C5-893CACB8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BEDC-7FFD-4F61-879E-6949DAAF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D3FC-63FD-41EA-9C1B-B777C498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45E9-A1E0-44FA-8F47-C0636844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1759-7050-440F-B1FC-7445888E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DC45-724A-45CF-A7A9-1ED2BEF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AD07-8A98-4004-A5A5-5E3E4030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9A88-FE1E-46A6-96EF-D3B521F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431F-BB45-447E-B085-6BB54652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BDAD-1A87-4D05-91E6-13C460E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FD77-12D7-444F-9613-C236701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64EF-53B3-4C17-8D50-C1AD6C8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0189-314A-4A54-9053-683CB36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FF0D-D4B7-4509-BDC4-E6BFA418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7762-67F7-466A-A786-CF3E4860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E5EC-C69A-4B97-9C5D-FE5F1C5D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E5D9-A3E7-441F-8F40-FB2E610E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44EC-9C98-4D49-921C-F1D4304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41F6-33C3-4BA6-8B1D-A47BC877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0D23-A951-4F76-9D54-51C7C51C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A8AA-7C99-4869-9B98-1D5D1C7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182B-A265-435F-AA22-919491B2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C765-6417-4C8F-BDC9-C54C7EE8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C24-F785-4307-B3E7-9FDDEA3340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B675-747A-4EB5-8E86-F5D538D3DD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инансовый менедж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31960" y="9079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125360"/>
          <a:ext cx="8229600" cy="5483520"/>
        </p:xfrm>
        <a:graphic>
          <a:graphicData uri="http://schemas.openxmlformats.org/drawingml/2006/table">
            <a:tbl>
              <a:tblPr/>
              <a:tblGrid>
                <a:gridCol w="2057400"/>
                <a:gridCol w="1986120"/>
                <a:gridCol w="2087280"/>
                <a:gridCol w="2098800"/>
              </a:tblGrid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подходов к управлению рис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ть под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ие потерь при наступлении рискового случ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использование средств на предотвращение ри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покрыв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 затраты на превентивные мероприятия, изъятие части ресурсов из оборота, снижение оборачи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осуществляется в ходе проведения хозяйственных опера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ывается часть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затраты на превентивные мероприятия, средний уровень эффективности и оборачиваемости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начинается только после наступления рискового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щерб локализуется в рамках одной операции, одного подраз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предупреждения риска малы, что увеличивает прибыльность, оборачиваемость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59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71640" y="2276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71640" y="31399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971640" y="51577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611280" y="162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61128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611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1128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427640" y="233532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4424400" y="3127320"/>
            <a:ext cx="33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4500720" y="521640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971640" y="4064040"/>
            <a:ext cx="3384360" cy="588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427640" y="3925800"/>
            <a:ext cx="367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9154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нятие риска. Финансовая среда предпринимательства (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8713800" cy="162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36000" rIns="360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4"/>
          <p:cNvGrpSpPr/>
          <p:nvPr/>
        </p:nvGrpSpPr>
        <p:grpSpPr>
          <a:xfrm>
            <a:off x="1258920" y="4224240"/>
            <a:ext cx="6211800" cy="2373480"/>
            <a:chOff x="1258920" y="4224240"/>
            <a:chExt cx="6211800" cy="2373480"/>
          </a:xfrm>
        </p:grpSpPr>
        <p:sp>
          <p:nvSpPr>
            <p:cNvPr id="123" name="_s1028"/>
            <p:cNvSpPr/>
            <p:nvPr/>
          </p:nvSpPr>
          <p:spPr>
            <a:xfrm>
              <a:off x="1258920" y="5084640"/>
              <a:ext cx="6211800" cy="614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ФИНАНСОВАЯ СРЕДА ПРЕДПРИНИМА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2843280" y="4224240"/>
              <a:ext cx="3384360" cy="565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2843280" y="6031080"/>
              <a:ext cx="3384360" cy="566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rot="10800000">
              <a:off x="3851280" y="4818240"/>
              <a:ext cx="1441440" cy="212400"/>
            </a:xfrm>
            <a:prstGeom prst="triangle">
              <a:avLst>
                <a:gd name="adj" fmla="val 51319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>
              <a:off x="3851280" y="5734080"/>
              <a:ext cx="1441440" cy="21276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168120" y="1125360"/>
            <a:ext cx="8805960" cy="1313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971640" y="1197000"/>
            <a:ext cx="3456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71640" y="213192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71640" y="270828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61092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11280" y="1484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11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61128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61128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611280" y="5589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076720" y="2205000"/>
            <a:ext cx="374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076720" y="299556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076720" y="3716280"/>
            <a:ext cx="3743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4716000" y="1484280"/>
            <a:ext cx="57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4716360" y="1486080"/>
            <a:ext cx="0" cy="40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716360" y="40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5003640" y="1197000"/>
            <a:ext cx="38894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716360" y="321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971640" y="530064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971640" y="465300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71640" y="335592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971640" y="4003560"/>
            <a:ext cx="3384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611280" y="4940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364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076720" y="450864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5076720" y="5229360"/>
            <a:ext cx="37432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4716360" y="47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4716360" y="551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1143000"/>
            <a:ext cx="342900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ассическая теория риск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724280" y="1143000"/>
            <a:ext cx="373392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оклассическая теория рис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68360" y="2362320"/>
            <a:ext cx="3417840" cy="1618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к рассматривал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возможный ущерб, который может произойти вследствие экономического дей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716360" y="2286000"/>
            <a:ext cx="3733920" cy="1739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рная прибыль всегда будет иметь большую полезность, нежели прибыль того же ожидаемого размера, но связанная с возможными колебани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68360" y="4292640"/>
            <a:ext cx="7920000" cy="2498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ременная те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иболее сложна и актуальна 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771640" y="3573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50920" y="4581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003640" y="4581360"/>
            <a:ext cx="3600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15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2050920" y="4221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5007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05092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659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826920" y="522936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826920" y="587700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5435640" y="522756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5435640" y="587520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53964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539640" y="5587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3964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521964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5219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5219640" y="616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324000" y="1197000"/>
            <a:ext cx="8569080" cy="208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нимательский риск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ь субъектов хозяй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и, связа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 преодолением неопределенности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лонения от ц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ржащиеся в выбираемых альтернати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71640" y="227664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971640" y="292428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71640" y="4508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611280" y="1628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611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11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11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71640" y="5300640"/>
            <a:ext cx="3384360" cy="43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11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426920" y="22543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426560" y="2911320"/>
            <a:ext cx="168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500720" y="450864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499640" y="522936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971640" y="363204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611280" y="391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427640" y="3562200"/>
            <a:ext cx="36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971640" y="5950080"/>
            <a:ext cx="3384360" cy="531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611280" y="623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4499640" y="595008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352680" y="1413000"/>
            <a:ext cx="2659320" cy="105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предпринимате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иск заемщик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49688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кредитор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300720" y="141300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4920" y="2895480"/>
            <a:ext cx="2514600" cy="345672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898720"/>
            <a:ext cx="2514600" cy="359964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ика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огда в оборот направляются собственные деньг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едпринимателя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вязан с сом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е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полага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вы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на которую предприниматель рассчиты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400800" y="2895480"/>
            <a:ext cx="2514600" cy="331380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язан с возможным уменьшением ценности денежной единиц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360" y="620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203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227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лекс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106720"/>
            <a:ext cx="8588160" cy="4451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39640" y="54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0:54:36Z</dcterms:created>
  <dc:creator>Techno</dc:creator>
  <dc:description/>
  <dc:language>en-US</dc:language>
  <cp:lastModifiedBy>LEGION</cp:lastModifiedBy>
  <dcterms:modified xsi:type="dcterms:W3CDTF">2016-01-05T12:46:02Z</dcterms:modified>
  <cp:revision>38</cp:revision>
  <dc:subject/>
  <dc:title>Краткосрочная финансовая политика</dc:title>
</cp:coreProperties>
</file>